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5ADD0-8554-4777-BCDE-2A6EC8EF0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B60AB-148F-4AB5-82BB-3B9D2BB68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70F014-DF2F-437A-B5F1-A62FF0C58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B72DB8-C547-4431-9CB2-7BF96B3E7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BD4C12-FE17-483B-BAD8-4A14E5EAF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2133E-2704-4072-A9D3-25EA8A2BE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3FBF2-CCFA-40DE-8DDE-9FEB5C154B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33F21E-F7CA-4EB4-9949-521E42213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4FF8D7-F846-4D9E-8C1E-74CB835FDA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47CFD4-4096-4AFF-BDE1-767C80CD12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E0BD5B-0100-44ED-B1D7-F5A342B1F2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C2F7D-2592-4560-89CB-F9CB58963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A8B27-97B0-4DDA-91B4-ED513CB16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ED116-B7AD-4F1C-A706-9ADCF0D3F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2FDFE-CE76-475B-8887-E915ED5F1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96473-A2C3-4750-A4C2-4A17D307B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197F4-87EE-4671-A3AB-2B7E701ED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8B614-DDE2-43B7-BB99-412E849A4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9A9B8-28F9-4298-8CD6-6A375EFEB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02C0A-2334-4C60-BF58-E865CC2B6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0FB19-8BAA-4F43-A4C0-6B3949600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BD650-1C2F-46FE-AE58-D70410A37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A79F5-0097-466B-AD72-B0E8BA0D2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E81DD-021A-4355-BD9A-2D17968FA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2B3BB-D3C0-422E-9C78-B81690F86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9A3E1-56BD-4B21-A45E-4D424A9EB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3B5CC0-7E73-40CE-AFD1-CEB2FED68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F55404-D87F-445E-A869-7114AFB83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D3A23-5C65-46DB-8A8E-EB2BB471B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351E5-B990-4CA1-B1BB-CC6CEC7B1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BBFB1-D941-4C95-8D6E-DB9015682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3C71A-3644-4578-BE61-311600225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77BB2-BA9B-4A65-89FA-2EA7E6900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6F13C-969F-4D43-A35F-8E011B4F7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AF29B-8D1A-43F6-9DB3-6249ED1E9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EFC8E-34E2-4E8B-87D2-96BC342F8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88225-A558-460F-8FB9-FEDA4DD12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08F11-EC21-4D6D-9A7B-DAF7CD463B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B3DD00-6EDD-4134-8CC7-2171AF5E1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2D3D2-0BF3-4666-955D-58536681FD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8003B-19D0-45E3-8B66-9CDE9C803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F5ABBE-3279-4F7D-829E-4B59EEA7F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17EA7-6FE3-40CA-9A5A-9E59AEC2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E62A6-D133-4C51-B177-55AA366DC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8CACA-793D-40F3-95D4-48139A57AC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800A0-D67F-44B0-9946-180DA93156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DBF30-6F4E-44D0-BFAB-6C3572E7D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147C4-C293-4D0E-9941-851711195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C9859-9694-4852-A45A-200B3004D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26E87-2E87-4138-AF09-FCE5381F6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679B10-CBE6-4FD5-85AA-F886BA9AF4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D5516A-67F0-40D2-BC4D-A6E4A1367B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38694F-4C80-4E27-B5D9-5C76D590E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9FB5-CDE9-4E49-8C1B-A282113A5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CA9DC6-34CB-435C-8071-A014C6F47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C2788-53CD-4296-AB43-F866DA0A0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19B95-F4F6-43B0-8A9E-44E26BB08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0536A-B7D3-4FCE-9A30-C86EDBE58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E08DC-EF6F-4B5B-AD21-94416BEC5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AB0BA-BACB-433C-8C34-2CB1362A0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BC53D-42D6-432B-A561-A81839ED4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A37EC-63DB-4435-9ADB-7D7DC9F2F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A1FEC-F655-4708-8275-3B180E207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506193-B66C-4634-ADFF-7E2EB061B1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5630-7461-4789-A2A1-3762E85E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6394D-2250-4659-B0A2-B424793FCE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097714-F20F-4655-A94F-A458FE39F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098F8-DDCB-4F1E-89E2-A6DB9E555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7F372E-E6D3-4363-8C5F-602567D30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6DABB-0326-4842-8A3B-32B41A9E6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EF017-36C5-4641-AED3-C131DDF61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2D2A4E-2503-43C6-8EF3-732FB30D1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AD0FC-14BC-4DD4-BE77-E84897B4C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753C7-1FDD-4924-B082-6B3F020AA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E5256-D74A-4B9B-8560-8C5184B28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A2B0-09D4-41AF-8613-667527E2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3858AA-CD94-4F56-9B24-7076FA7839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2AA052-FEC3-42EE-895D-02E6908A21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D9C4E6-6BA6-43D0-83C2-15720CA2F8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A73803-58C7-46FE-91EE-EA6FC9835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5DAE82-82F8-4E3F-841F-955BF31A74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E023C2-20B8-4047-9DCD-F88F35BD1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783F79-FD58-4A96-A775-EBF4A42323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31F0F-4926-4F7E-95A0-09334F85C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F938E-42B1-4B9B-A7CE-097A4EE3A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5C593-9EC4-4206-879C-EBD07FA3F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0C71-720D-458C-9DD8-106DC959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A345E-26EC-4CE3-BE39-5EAB8B87C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4C9CA-5AEA-49E5-9158-029DE926B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53043F-40A7-4F9C-8DFC-505547762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22C3A5-5C91-4AC9-9827-AF08F36D7E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2EDA4E-C5AE-4A17-B0ED-53313D736F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40AABE-7D76-47E1-8AD1-924201904E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B7314E-14AC-445A-BC13-A75F655CB6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C562A9-263F-4FFD-885D-CEE5777366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E5CC0-73E2-4162-B04C-1B6C6A8719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741B4-10BC-4CCE-BB5A-7C96DD4D1F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AB04-285A-4D08-AE71-ADFCB722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AC564D-36F7-4FF0-BE46-F4A817D0E0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21823-93E8-44CF-BEAF-278860E862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34441-4517-4469-ABBF-4D4578FB4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A2327-4C86-4672-9DF7-0B4056964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39DD3-8779-4EFF-AE53-7338D608D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8C7E1F-EFE5-47A5-8AE5-13A92AC51D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CEC823-86A1-496F-81AE-BB02AADCEA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E98104-E02A-42FE-A522-A1AD45B106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463E4-E5AD-4D2F-8176-277BCB34D4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16DEE7-8BD5-45B3-A4F8-8BBB4C3A38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4CBD-AD4F-4F2F-9189-EA1B89D877B8}"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FE31-DB91-4A09-BD4D-2438E14FFCB9}"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17C9-1115-485C-886E-8F4711758C2B}"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E53E-DBD7-4ECE-8014-8B9F9B7A2F9B}"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064E-CB7A-4CED-A0A1-77A5145CB159}"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2780-5AF0-4ADC-8B43-825F79A23E73}"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B9D5-FFA2-43F6-AAED-F2BA79AAD592}"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DB2B-400F-4F85-9BE0-B02986B70ABA}"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E94F-027E-4CCD-83A6-EEF717E399AF}" type="slidenum">
              <a:rPr b="0" lang="en-C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type="subTitle"/>
          </p:nvPr>
        </p:nvSpPr>
        <p:spPr>
          <a:xfrm>
            <a:off x="342720" y="-316440"/>
            <a:ext cx="8458200" cy="124812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443329"/>
                </a:solidFill>
                <a:latin typeface="Franklin Gothic Book"/>
              </a:rPr>
              <a:t>5.3 Baby Boom Continued</a:t>
            </a:r>
            <a:endParaRPr b="0" lang="en-US" sz="2800" spc="-1" strike="noStrike">
              <a:solidFill>
                <a:srgbClr val="4e3b3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443329"/>
                </a:solidFill>
                <a:latin typeface="Franklin Gothic Book"/>
              </a:rPr>
              <a:t>Nurturing the Baby boom</a:t>
            </a:r>
            <a:endParaRPr b="0" lang="en-US" sz="2800" spc="-1" strike="noStrike">
              <a:solidFill>
                <a:srgbClr val="4e3b30"/>
              </a:solidFill>
              <a:latin typeface="Franklin Gothic Book"/>
            </a:endParaRPr>
          </a:p>
        </p:txBody>
      </p:sp>
      <p:pic>
        <p:nvPicPr>
          <p:cNvPr id="401" name="Picture 2" descr=""/>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109440" y="457200"/>
            <a:ext cx="8882280" cy="100008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Summer of Love became a defining moment of the 1960s, as the hippie counterculture movement came into public awareness</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se lifestyles included communal living; the free and communal sharing of resources, often among total strangers; and free lov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109440" y="457200"/>
            <a:ext cx="8882280" cy="1000080"/>
          </a:xfrm>
          <a:prstGeom prst="rect">
            <a:avLst/>
          </a:prstGeom>
          <a:ln w="0">
            <a:noFill/>
          </a:ln>
        </p:spPr>
      </p:pic>
      <p:pic>
        <p:nvPicPr>
          <p:cNvPr id="427" name="" descr=""/>
          <p:cNvPicPr/>
          <p:nvPr/>
        </p:nvPicPr>
        <p:blipFill>
          <a:blip r:embed="rId2"/>
          <a:stretch/>
        </p:blipFill>
        <p:spPr>
          <a:xfrm>
            <a:off x="304920" y="1554120"/>
            <a:ext cx="8686800" cy="4525920"/>
          </a:xfrm>
          <a:prstGeom prst="rect">
            <a:avLst/>
          </a:prstGeom>
          <a:ln w="0">
            <a:noFill/>
          </a:ln>
        </p:spPr>
      </p:pic>
      <p:pic>
        <p:nvPicPr>
          <p:cNvPr id="428" name="Picture 2" descr=""/>
          <p:cNvPicPr/>
          <p:nvPr/>
        </p:nvPicPr>
        <p:blipFill>
          <a:blip r:embed="rId3"/>
          <a:stretch/>
        </p:blipFill>
        <p:spPr>
          <a:xfrm>
            <a:off x="0" y="1562040"/>
            <a:ext cx="9144000" cy="5295960"/>
          </a:xfrm>
          <a:prstGeom prst="rect">
            <a:avLst/>
          </a:prstGeom>
          <a:ln w="0">
            <a:noFill/>
          </a:ln>
        </p:spPr>
      </p:pic>
      <p:pic>
        <p:nvPicPr>
          <p:cNvPr id="429" name="Rectangle 3" descr=""/>
          <p:cNvPicPr/>
          <p:nvPr/>
        </p:nvPicPr>
        <p:blipFill>
          <a:blip r:embed="rId4"/>
          <a:stretch/>
        </p:blipFill>
        <p:spPr>
          <a:xfrm>
            <a:off x="-371520" y="1371600"/>
            <a:ext cx="5632560" cy="15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09440" y="457200"/>
            <a:ext cx="8882280" cy="1000080"/>
          </a:xfrm>
          <a:prstGeom prst="rect">
            <a:avLst/>
          </a:prstGeom>
          <a:ln w="0">
            <a:noFill/>
          </a:ln>
        </p:spPr>
      </p:pic>
      <p:sp>
        <p:nvSpPr>
          <p:cNvPr id="431"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A </a:t>
            </a:r>
            <a:r>
              <a:rPr b="1" lang="en-CA" sz="3000" spc="-1" strike="noStrike">
                <a:solidFill>
                  <a:srgbClr val="4e3b30"/>
                </a:solidFill>
                <a:latin typeface="Franklin Gothic Book"/>
              </a:rPr>
              <a:t>roller disco</a:t>
            </a:r>
            <a:r>
              <a:rPr b="0" lang="en-CA" sz="3000" spc="-1" strike="noStrike">
                <a:solidFill>
                  <a:srgbClr val="4e3b30"/>
                </a:solidFill>
                <a:latin typeface="Franklin Gothic Book"/>
              </a:rPr>
              <a:t> is a discothèque where all the dancers wear roller skates of some kind</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To minimise the risk of injury,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the organisers of roller discos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often only allow participants to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skate in one direction at a time,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so that they do not crash into one </a:t>
            </a:r>
            <a:r>
              <a:rPr b="0" lang="en-CA" sz="3000" spc="-1" strike="noStrike">
                <a:solidFill>
                  <a:srgbClr val="4e3b30"/>
                </a:solidFill>
                <a:latin typeface="Franklin Gothic Book"/>
              </a:rPr>
              <a:t>	</a:t>
            </a:r>
            <a:endParaRPr b="0" lang="en-US" sz="3000" spc="-1" strike="noStrike">
              <a:solidFill>
                <a:srgbClr val="4e3b30"/>
              </a:solidFill>
              <a:latin typeface="Franklin Gothic Book"/>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another, although many roller discos have a "free skate" section in the middle of the roller rink.</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pic>
        <p:nvPicPr>
          <p:cNvPr id="432" name="Picture 2" descr=""/>
          <p:cNvPicPr/>
          <p:nvPr/>
        </p:nvPicPr>
        <p:blipFill>
          <a:blip r:embed="rId2"/>
          <a:stretch/>
        </p:blipFill>
        <p:spPr>
          <a:xfrm>
            <a:off x="5867280" y="2781360"/>
            <a:ext cx="2913120" cy="23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09440" y="457200"/>
            <a:ext cx="8882280" cy="1000080"/>
          </a:xfrm>
          <a:prstGeom prst="rect">
            <a:avLst/>
          </a:prstGeom>
          <a:ln w="0">
            <a:noFill/>
          </a:ln>
        </p:spPr>
      </p:pic>
      <p:pic>
        <p:nvPicPr>
          <p:cNvPr id="434" name="" descr=""/>
          <p:cNvPicPr/>
          <p:nvPr/>
        </p:nvPicPr>
        <p:blipFill>
          <a:blip r:embed="rId2"/>
          <a:stretch/>
        </p:blipFill>
        <p:spPr>
          <a:xfrm>
            <a:off x="304920" y="1554120"/>
            <a:ext cx="8686800" cy="4525920"/>
          </a:xfrm>
          <a:prstGeom prst="rect">
            <a:avLst/>
          </a:prstGeom>
          <a:ln w="0">
            <a:noFill/>
          </a:ln>
        </p:spPr>
      </p:pic>
      <p:pic>
        <p:nvPicPr>
          <p:cNvPr id="435" name="Picture 2" descr=""/>
          <p:cNvPicPr/>
          <p:nvPr/>
        </p:nvPicPr>
        <p:blipFill>
          <a:blip r:embed="rId3"/>
          <a:stretch/>
        </p:blipFill>
        <p:spPr>
          <a:xfrm>
            <a:off x="0" y="1557360"/>
            <a:ext cx="91440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itle 1" descr=""/>
          <p:cNvPicPr/>
          <p:nvPr/>
        </p:nvPicPr>
        <p:blipFill>
          <a:blip r:embed="rId1"/>
          <a:stretch/>
        </p:blipFill>
        <p:spPr>
          <a:xfrm>
            <a:off x="109440" y="457200"/>
            <a:ext cx="8882280" cy="1000080"/>
          </a:xfrm>
          <a:prstGeom prst="rect">
            <a:avLst/>
          </a:prstGeom>
          <a:ln w="0">
            <a:noFill/>
          </a:ln>
        </p:spPr>
      </p:pic>
      <p:sp>
        <p:nvSpPr>
          <p:cNvPr id="43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biggest band of the '70s" and "unquestionably one of the most enduring bands in rock histor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band as being "as influential in that decade [70s] as The Beatles were in the prior on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109440" y="457200"/>
            <a:ext cx="8882280" cy="1000080"/>
          </a:xfrm>
          <a:prstGeom prst="rect">
            <a:avLst/>
          </a:prstGeom>
          <a:ln w="0">
            <a:noFill/>
          </a:ln>
        </p:spPr>
      </p:pic>
      <p:pic>
        <p:nvPicPr>
          <p:cNvPr id="439" name="" descr=""/>
          <p:cNvPicPr/>
          <p:nvPr/>
        </p:nvPicPr>
        <p:blipFill>
          <a:blip r:embed="rId2"/>
          <a:stretch/>
        </p:blipFill>
        <p:spPr>
          <a:xfrm>
            <a:off x="304920" y="1554120"/>
            <a:ext cx="8686800" cy="4525920"/>
          </a:xfrm>
          <a:prstGeom prst="rect">
            <a:avLst/>
          </a:prstGeom>
          <a:ln w="0">
            <a:noFill/>
          </a:ln>
        </p:spPr>
      </p:pic>
      <p:pic>
        <p:nvPicPr>
          <p:cNvPr id="440" name="Picture 2" descr=""/>
          <p:cNvPicPr/>
          <p:nvPr/>
        </p:nvPicPr>
        <p:blipFill>
          <a:blip r:embed="rId3"/>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09440" y="457200"/>
            <a:ext cx="8882280" cy="100008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movement that placed great importance on music, clothes, and dancing.</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109440" y="457200"/>
            <a:ext cx="8882280" cy="1000080"/>
          </a:xfrm>
          <a:prstGeom prst="rect">
            <a:avLst/>
          </a:prstGeom>
          <a:ln w="0">
            <a:noFill/>
          </a:ln>
        </p:spPr>
      </p:pic>
      <p:sp>
        <p:nvSpPr>
          <p:cNvPr id="44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From what you have seen, would you rather have grown up in the 60’s or 70’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Are any of these music groups or fashions still around today?  If so how can you explain their popularit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Why do you think they disappeared?</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109440" y="457200"/>
            <a:ext cx="8882280" cy="1000080"/>
          </a:xfrm>
          <a:prstGeom prst="rect">
            <a:avLst/>
          </a:prstGeom>
          <a:ln w="0">
            <a:noFill/>
          </a:ln>
        </p:spPr>
      </p:pic>
      <p:pic>
        <p:nvPicPr>
          <p:cNvPr id="403" name="Beach Boys - Surfin' USA.mp3" descr=""/>
          <p:cNvPicPr/>
          <p:nvPr/>
        </p:nvPicPr>
        <p:blipFill>
          <a:blip r:embed="rId2"/>
          <a:stretch/>
        </p:blipFill>
        <p:spPr>
          <a:xfrm>
            <a:off x="82440" y="6248520"/>
            <a:ext cx="609840" cy="609480"/>
          </a:xfrm>
          <a:prstGeom prst="rect">
            <a:avLst/>
          </a:prstGeom>
          <a:ln w="0">
            <a:noFill/>
          </a:ln>
        </p:spPr>
      </p:pic>
      <p:pic>
        <p:nvPicPr>
          <p:cNvPr id="404" name="Picture 2" descr=""/>
          <p:cNvPicPr/>
          <p:nvPr/>
        </p:nvPicPr>
        <p:blipFill>
          <a:blip r:embed="rId3"/>
          <a:stretch/>
        </p:blipFill>
        <p:spPr>
          <a:xfrm>
            <a:off x="0" y="1562040"/>
            <a:ext cx="9144000" cy="5295960"/>
          </a:xfrm>
          <a:prstGeom prst="rect">
            <a:avLst/>
          </a:prstGeom>
          <a:ln w="0">
            <a:noFill/>
          </a:ln>
        </p:spPr>
      </p:pic>
      <p:pic>
        <p:nvPicPr>
          <p:cNvPr id="405" name="Beach Boys - Surfin' USA.mp3" descr=""/>
          <p:cNvPicPr/>
          <p:nvPr/>
        </p:nvPicPr>
        <p:blipFill>
          <a:blip r:embed="rId4"/>
          <a:stretch/>
        </p:blipFill>
        <p:spPr>
          <a:xfrm>
            <a:off x="108000" y="1596960"/>
            <a:ext cx="609480" cy="609840"/>
          </a:xfrm>
          <a:prstGeom prst="rect">
            <a:avLst/>
          </a:prstGeom>
          <a:ln w="0">
            <a:noFill/>
          </a:ln>
        </p:spPr>
      </p:pic>
      <p:pic>
        <p:nvPicPr>
          <p:cNvPr id="406" name="Rectangle 5" descr=""/>
          <p:cNvPicPr/>
          <p:nvPr/>
        </p:nvPicPr>
        <p:blipFill>
          <a:blip r:embed="rId5"/>
          <a:stretch/>
        </p:blipFill>
        <p:spPr>
          <a:xfrm>
            <a:off x="-328680" y="5767560"/>
            <a:ext cx="8674200" cy="156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04"/>
                                        </p:tgtEl>
                                        <p:attrNameLst>
                                          <p:attrName>style.visibility</p:attrName>
                                        </p:attrNameLst>
                                      </p:cBhvr>
                                      <p:to>
                                        <p:strVal val="visible"/>
                                      </p:to>
                                    </p:set>
                                    <p:animEffect filter="fade" transition="in">
                                      <p:cBhvr additive="repl">
                                        <p:cTn id="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109440" y="457200"/>
            <a:ext cx="8882280" cy="10000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It affected fashion, music, literature, films, jargon, and more. Surfers, who come from many walks of life, are bound by the hunt for great waves, the desire for the ultimate ride, and life in and around the ocea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109440" y="457200"/>
            <a:ext cx="8882280" cy="1000080"/>
          </a:xfrm>
          <a:prstGeom prst="rect">
            <a:avLst/>
          </a:prstGeom>
          <a:ln w="0">
            <a:noFill/>
          </a:ln>
        </p:spPr>
      </p:pic>
      <p:pic>
        <p:nvPicPr>
          <p:cNvPr id="410" name="The Beatles - Twist And Shout.mp3" descr=""/>
          <p:cNvPicPr/>
          <p:nvPr/>
        </p:nvPicPr>
        <p:blipFill>
          <a:blip r:embed="rId2"/>
          <a:stretch/>
        </p:blipFill>
        <p:spPr>
          <a:xfrm>
            <a:off x="4321080" y="1628640"/>
            <a:ext cx="609840" cy="609840"/>
          </a:xfrm>
          <a:prstGeom prst="rect">
            <a:avLst/>
          </a:prstGeom>
          <a:ln w="0">
            <a:noFill/>
          </a:ln>
        </p:spPr>
      </p:pic>
      <p:pic>
        <p:nvPicPr>
          <p:cNvPr id="411" name="Picture 2" descr=""/>
          <p:cNvPicPr/>
          <p:nvPr/>
        </p:nvPicPr>
        <p:blipFill>
          <a:blip r:embed="rId3"/>
          <a:stretch/>
        </p:blipFill>
        <p:spPr>
          <a:xfrm>
            <a:off x="-128520" y="1401840"/>
            <a:ext cx="9534600" cy="5608440"/>
          </a:xfrm>
          <a:prstGeom prst="rect">
            <a:avLst/>
          </a:prstGeom>
          <a:ln w="0">
            <a:noFill/>
          </a:ln>
        </p:spPr>
      </p:pic>
      <p:pic>
        <p:nvPicPr>
          <p:cNvPr id="412" name="The Beatles - Obladi, Oblada, Life Goes On.mp3" descr=""/>
          <p:cNvPicPr/>
          <p:nvPr/>
        </p:nvPicPr>
        <p:blipFill>
          <a:blip r:embed="rId4"/>
          <a:stretch/>
        </p:blipFill>
        <p:spPr>
          <a:xfrm>
            <a:off x="147636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11"/>
                                        </p:tgtEl>
                                        <p:attrNameLst>
                                          <p:attrName>style.visibility</p:attrName>
                                        </p:attrNameLst>
                                      </p:cBhvr>
                                      <p:to>
                                        <p:strVal val="visible"/>
                                      </p:to>
                                    </p:set>
                                    <p:animEffect filter="fade" transition="in">
                                      <p:cBhvr additive="repl">
                                        <p:cTn id="1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109440" y="457200"/>
            <a:ext cx="8882280" cy="1000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Beatles' influence on popular culture was—and remains—immens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In the form that they worked in, in the form of popular music, no one will ever be more revolutionary, more creative and more distinctive than The Beatles wer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09440" y="457200"/>
            <a:ext cx="8882280" cy="100008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Beatles changed the way people listened to popular music and experienced its role in their lives</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The group grew to be perceived by their young fans across the industrialized world as the representatives, even the embodiment, of ideals associated with cultural transformatio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9440" y="457200"/>
            <a:ext cx="8882280" cy="1000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e3b30"/>
                </a:solidFill>
                <a:latin typeface="Franklin Gothic Book"/>
              </a:rPr>
              <a:t>Activism in various social and political arenas, fuelling such movements as women's liberation, gay Liberation and environmentalism</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109440" y="457200"/>
            <a:ext cx="8882280" cy="1000080"/>
          </a:xfrm>
          <a:prstGeom prst="rect">
            <a:avLst/>
          </a:prstGeom>
          <a:ln w="0">
            <a:noFill/>
          </a:ln>
        </p:spPr>
      </p:pic>
      <p:pic>
        <p:nvPicPr>
          <p:cNvPr id="420" name="" descr=""/>
          <p:cNvPicPr/>
          <p:nvPr/>
        </p:nvPicPr>
        <p:blipFill>
          <a:blip r:embed="rId2"/>
          <a:stretch/>
        </p:blipFill>
        <p:spPr>
          <a:xfrm>
            <a:off x="304920" y="1554120"/>
            <a:ext cx="8686800" cy="4525920"/>
          </a:xfrm>
          <a:prstGeom prst="rect">
            <a:avLst/>
          </a:prstGeom>
          <a:ln w="0">
            <a:noFill/>
          </a:ln>
        </p:spPr>
      </p:pic>
      <p:pic>
        <p:nvPicPr>
          <p:cNvPr id="421" name="Picture 2" descr=""/>
          <p:cNvPicPr/>
          <p:nvPr/>
        </p:nvPicPr>
        <p:blipFill>
          <a:blip r:embed="rId3"/>
          <a:stretch/>
        </p:blipFill>
        <p:spPr>
          <a:xfrm>
            <a:off x="0" y="1484280"/>
            <a:ext cx="9144000" cy="54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9440" y="457200"/>
            <a:ext cx="8882280" cy="100008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The </a:t>
            </a:r>
            <a:r>
              <a:rPr b="1" lang="en-CA" sz="3000" spc="-1" strike="noStrike">
                <a:solidFill>
                  <a:srgbClr val="4e3b30"/>
                </a:solidFill>
                <a:latin typeface="Franklin Gothic Book"/>
              </a:rPr>
              <a:t>Summer of Love</a:t>
            </a:r>
            <a:r>
              <a:rPr b="0" lang="en-CA" sz="3000" spc="-1" strike="noStrike">
                <a:solidFill>
                  <a:srgbClr val="4e3b30"/>
                </a:solidFill>
                <a:latin typeface="Franklin Gothic Book"/>
              </a:rPr>
              <a:t> was a social phenomenon that occurred during summer of 1967, when as many as 100,000 people converged in a  neighbourhood of San Francisco, creating a cultural and political rebellion</a:t>
            </a:r>
            <a:endParaRPr b="0" lang="en-US" sz="3000" spc="-1" strike="noStrike">
              <a:solidFill>
                <a:srgbClr val="4e3b30"/>
              </a:solidFill>
              <a:latin typeface="Franklin Gothic Book"/>
            </a:endParaRPr>
          </a:p>
          <a:p>
            <a:pPr marL="325800" indent="-3258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5800" indent="-3258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4e3b30"/>
                </a:solidFill>
                <a:latin typeface="Franklin Gothic Book"/>
              </a:rPr>
              <a:t>San Francisco was the center of the hippie revolution, a melting pot of music, psychoactive drugs, sexual freedom, creative expression, and politics.</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4:39:16Z</dcterms:created>
  <dc:creator>Jason</dc:creator>
  <dc:description/>
  <dc:language>en-US</dc:language>
  <cp:lastModifiedBy>Jason</cp:lastModifiedBy>
  <dcterms:modified xsi:type="dcterms:W3CDTF">2010-12-07T20:05:19Z</dcterms:modified>
  <cp:revision>6</cp:revision>
  <dc:subject/>
  <dc:title>PowerPoint Presentation</dc:title>
</cp:coreProperties>
</file>